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36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5080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3324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6A9978-881F-49B7-9CC1-981359AA0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D260B7-7BA3-4FF0-9DDF-49784573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D8181E-5017-4ACB-87CD-3126F2EF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0DB3BD-5477-459B-8D67-ECBDCB9F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B60752-464E-4029-AECB-F0D4636D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54380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0BB45-4E79-470E-86FD-A0505412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23D3AB-E1E9-4539-97FF-0E749CEF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330DBB-1EF0-4CD4-8F52-9E0361BE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FA4847-7260-4A3F-B8DE-74D731DC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68174B-B652-4F60-8535-7BDCFEAE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58E5F9-EDA9-4537-871E-60832B762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36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5080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3324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6F5C1E-DCA7-4D58-91A2-12E82D7B7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54380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836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5080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3324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C086A1-6668-45B3-B61B-A8D573757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FDDCDF-CEAB-4943-8B88-96AF8033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BB2233-435D-462D-A753-7D9F2498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4F5DD1-6545-4DB1-A49C-5A24B3AB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F25A39-05B9-4E4C-9BC6-12953DA4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54380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3F0D7D-6DE7-4623-BB2E-FEF93089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5378EE-8CD9-4E12-AC75-2423421C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D12F9B-A7DB-4BCD-A0A2-900954D8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F3BF7C-6A71-4570-AF0A-C60C6B69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D2881C-915C-444A-8048-497C6C74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35D942-513A-4B58-B177-890D75752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836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5080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3324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E9D8D7-65C8-49F9-B90D-337621921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54380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D:%5Cppts%20from%20c%20drive%5Cppt%20collections%5Cleeds%5Ccoffee.ppt" TargetMode="External"/><Relationship Id="rId3" Type="http://schemas.openxmlformats.org/officeDocument/2006/relationships/hyperlink" Target="D:%5Cppts%20from%20c%20drive%5Cppt%20collections%5Cleeds%5CChoices&#8230;.ppt" TargetMode="External"/><Relationship Id="rId4" Type="http://schemas.openxmlformats.org/officeDocument/2006/relationships/hyperlink" Target="D:%5Cppts%20from%20c%20drive%5Cppt%20collections%5COrganising%20your%20studies%5Corganising%20choices.ppt" TargetMode="External"/><Relationship Id="rId5" Type="http://schemas.openxmlformats.org/officeDocument/2006/relationships/hyperlink" Target="Choices&#8230;.ppt" TargetMode="External"/><Relationship Id="rId6" Type="http://schemas.openxmlformats.org/officeDocument/2006/relationships/hyperlink" Target="name%20labels.ppt" TargetMode="External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D:%5Cppts%20from%20c%20drive%5Cppt%20collections%5Cleeds%5CChoices&#8230;.ppt" TargetMode="External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Choices&#8230;.ppt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1030320" indent="-28584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373040" indent="-22860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716120" indent="-22860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058840" indent="-22860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2058840" indent="-22860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2058840" indent="-22860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Rounded MT Bold"/>
              </a:rPr>
              <a:t>Click to edit the title text format</a:t>
            </a:r>
            <a:endParaRPr b="1" lang="en-US" sz="5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7360" y="6329520"/>
            <a:ext cx="189216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rId2"/>
          </p:cNvPr>
          <p:cNvSpPr/>
          <p:nvPr/>
        </p:nvSpPr>
        <p:spPr>
          <a:xfrm>
            <a:off x="685800" y="609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8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8"/>
                </a:lnTo>
                <a:lnTo>
                  <a:pt x="20200" y="20208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rId3"/>
          </p:cNvPr>
          <p:cNvSpPr/>
          <p:nvPr/>
        </p:nvSpPr>
        <p:spPr>
          <a:xfrm>
            <a:off x="8001000" y="5715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rId4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rId5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rId6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43120" y="1530360"/>
            <a:ext cx="7759440" cy="20448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Rounded MT Bold"/>
              </a:rPr>
              <a:t>Click to edit the title text format</a:t>
            </a:r>
            <a:endParaRPr b="1" lang="en-US" sz="5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394B-3618-40DA-AE59-AF6073B5B021}" type="datetime3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 July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66EE-7AE5-42EC-A00F-FDCE5C3595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2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 flipH="1">
            <a:off x="7956360" y="152280"/>
            <a:ext cx="6120" cy="11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3399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8a0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a0c6a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99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8101080" y="189000"/>
            <a:ext cx="574560" cy="1080720"/>
            <a:chOff x="8101080" y="189000"/>
            <a:chExt cx="574560" cy="1080720"/>
          </a:xfrm>
        </p:grpSpPr>
        <p:sp>
          <p:nvSpPr>
            <p:cNvPr id="89" name=""/>
            <p:cNvSpPr/>
            <p:nvPr/>
          </p:nvSpPr>
          <p:spPr>
            <a:xfrm>
              <a:off x="8101080" y="1890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222760" y="1890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45160" y="1890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101080" y="3294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222760" y="3294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45160" y="3294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467200" y="329400"/>
              <a:ext cx="86400" cy="993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101080" y="46944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222760" y="46944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345160" y="469440"/>
              <a:ext cx="86400" cy="993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467200" y="469440"/>
              <a:ext cx="86400" cy="993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589240" y="469440"/>
              <a:ext cx="86400" cy="9936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101080" y="609120"/>
              <a:ext cx="86400" cy="10008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222760" y="609120"/>
              <a:ext cx="86400" cy="10008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45160" y="609120"/>
              <a:ext cx="86400" cy="10008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467200" y="609120"/>
              <a:ext cx="86400" cy="10008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1080" y="749520"/>
              <a:ext cx="86400" cy="1004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222760" y="749520"/>
              <a:ext cx="86400" cy="1004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345160" y="749520"/>
              <a:ext cx="86400" cy="10044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467200" y="749520"/>
              <a:ext cx="86400" cy="10044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589240" y="749520"/>
              <a:ext cx="86400" cy="10044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101080" y="889920"/>
              <a:ext cx="86400" cy="993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22760" y="889920"/>
              <a:ext cx="86400" cy="9936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345160" y="889920"/>
              <a:ext cx="86400" cy="9936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467200" y="889920"/>
              <a:ext cx="86400" cy="99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01080" y="1030320"/>
              <a:ext cx="86400" cy="9936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22760" y="1030320"/>
              <a:ext cx="86400" cy="9936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45160" y="1030320"/>
              <a:ext cx="86400" cy="99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467200" y="1030320"/>
              <a:ext cx="86400" cy="99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222760" y="1170360"/>
              <a:ext cx="86400" cy="99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467200" y="1170360"/>
              <a:ext cx="86400" cy="99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0" name="" descr="">
            <a:hlinkClick r:id="rId2"/>
          </p:cNvPr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6264360" y="6070680"/>
            <a:ext cx="2879640" cy="78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73C7-199D-44EE-AE6D-6D6190779CB6}" type="datetime3">
              <a:rPr b="0" lang="en-US" sz="10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D673-1AB2-44B7-90A5-FDA990D4A5CF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493040" y="2992320"/>
            <a:ext cx="1338120" cy="2189160"/>
            <a:chOff x="7493040" y="2992320"/>
            <a:chExt cx="1338120" cy="2189160"/>
          </a:xfrm>
        </p:grpSpPr>
        <p:sp>
          <p:nvSpPr>
            <p:cNvPr id="163" name=""/>
            <p:cNvSpPr/>
            <p:nvPr/>
          </p:nvSpPr>
          <p:spPr>
            <a:xfrm>
              <a:off x="7493040" y="29923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77080" y="29923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61480" y="29923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93040" y="32767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777080" y="32767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061480" y="32767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45520" y="3276720"/>
              <a:ext cx="20160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493040" y="356076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777080" y="356076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61480" y="3560760"/>
              <a:ext cx="20160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345520" y="3560760"/>
              <a:ext cx="20160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629560" y="3560760"/>
              <a:ext cx="201600" cy="2016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493040" y="3843360"/>
              <a:ext cx="201600" cy="20304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777080" y="3843360"/>
              <a:ext cx="201600" cy="2030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061480" y="3843360"/>
              <a:ext cx="201600" cy="2030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345520" y="3843360"/>
              <a:ext cx="201600" cy="20304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93040" y="4127400"/>
              <a:ext cx="201600" cy="2034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777080" y="4127400"/>
              <a:ext cx="201600" cy="2034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061480" y="4127400"/>
              <a:ext cx="201600" cy="2034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345520" y="4127400"/>
              <a:ext cx="201600" cy="2034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629560" y="4127400"/>
              <a:ext cx="201600" cy="2034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93040" y="4411800"/>
              <a:ext cx="20160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77080" y="4411800"/>
              <a:ext cx="201600" cy="2016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061480" y="4411800"/>
              <a:ext cx="201600" cy="2016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345520" y="4411800"/>
              <a:ext cx="201600" cy="2016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93040" y="4695840"/>
              <a:ext cx="201600" cy="2016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77080" y="4695840"/>
              <a:ext cx="201600" cy="2016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061480" y="4695840"/>
              <a:ext cx="201600" cy="2016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345520" y="4695840"/>
              <a:ext cx="201600" cy="2016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777080" y="4979880"/>
              <a:ext cx="201600" cy="2016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345520" y="4979880"/>
              <a:ext cx="201600" cy="2016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7451640" y="1052640"/>
            <a:ext cx="1071720" cy="165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 Rounded MT Bold"/>
              </a:rPr>
              <a:t>Understanding?</a:t>
            </a:r>
            <a:endParaRPr b="1" lang="en-US" sz="5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o you understand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at does ‘yes’ mean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at does ‘no’ mean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How do you know you understand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How can you show me that you understand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at can you do to show me that you understand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at can you do to show yourself that you  understand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 do understand…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0">
              <a:lnSpc>
                <a:spcPct val="8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- but I don’t care”. (attrib. Homer Simpson)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0">
              <a:lnSpc>
                <a:spcPct val="8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B7DDA9-8C70-44F1-8D5E-67B18DBA5A0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 Rounded MT Bold"/>
              </a:rPr>
              <a:t>‘</a:t>
            </a:r>
            <a:r>
              <a:rPr b="1" lang="en-GB" sz="3600" spc="-1" strike="noStrike">
                <a:solidFill>
                  <a:srgbClr val="ffff00"/>
                </a:solidFill>
                <a:latin typeface="Arial Rounded MT Bold"/>
              </a:rPr>
              <a:t>Demonstrate your understanding of…’</a:t>
            </a:r>
            <a:endParaRPr b="1" lang="en-US" sz="36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But how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When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Where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To whom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To what level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Just once, or several times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In just one way, or in several ways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To what standard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For what purpose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A most unsatisfactory phrase – an excuse for not being clear with our students!!  Needs to be excised from all syllabus documents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71121A-1D11-4D5B-BF20-03F02CF20E3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 Rounded MT Bold"/>
              </a:rPr>
              <a:t>Levels of understanding?</a:t>
            </a:r>
            <a:endParaRPr b="1" lang="en-US" sz="5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Faith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Belief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onviction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Obsession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rust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3E2114-FA57-4C68-A7C9-66A8080C546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 Rounded MT Bold"/>
              </a:rPr>
              <a:t>“</a:t>
            </a:r>
            <a:r>
              <a:rPr b="1" lang="en-GB" sz="5400" spc="-1" strike="noStrike">
                <a:solidFill>
                  <a:srgbClr val="ffff00"/>
                </a:solidFill>
                <a:latin typeface="Arial Rounded MT Bold"/>
              </a:rPr>
              <a:t>A little learning is a dangerous thing”</a:t>
            </a:r>
            <a:endParaRPr b="1" lang="en-US" sz="5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-630360">
              <a:lnSpc>
                <a:spcPct val="90000"/>
              </a:lnSpc>
              <a:spcBef>
                <a:spcPts val="1400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o no learning is safer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400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re learning is even more dangerous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400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nd how about a little understanding of what has been learned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400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Is learning (noun) the same as understanding (noun)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400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earning (participle) certainly isn’t the same as understanding (participle)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16E3E8-8074-4CB9-BEDE-D3DEB9EDB7A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 Rounded MT Bold"/>
              </a:rPr>
              <a:t>The peace which passeth all understanding (1)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-630360">
              <a:lnSpc>
                <a:spcPct val="90000"/>
              </a:lnSpc>
              <a:spcBef>
                <a:spcPts val="1049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Do you understand?’ lecturer asks student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049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(‘Understand what?’ thinks student. ‘What am I supposed to understand?’ ‘What will he/she think of me if I say “no”?’ ‘If I say “yes” will he/she ask me a difficult question to catch me out?’ ‘Why am I being asked this anyway?’ ‘Is it going to be important for me to understand this?’. ‘How will I know when I understand it?’. ‘What will I be able to do when I understand it?’. ‘How will I be able to demonstrate my understanding of it?’. ‘Do I actually have to understand it, or will it be enough simply to demonstrate my understanding of it, by doing something I can do, even when I don’t understand it?’. ‘Does he/she understand it, anyway?’)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049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mmm’ replies student (as soon as possible after all that thinking).    … continued…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DA0D6B-3B02-4683-9671-38C3466C324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350000001490116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350000001490116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350000001490116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 Rounded MT Bold"/>
              </a:rPr>
              <a:t>The peace which passeth all understanding (2)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o you don’t understand it then?’ alleges lecturer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Well, …’ replies student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o you understand it well?’ smiles lecturer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Just about’ replies student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h, good’ says lecturer. ‘I made myself clear then?’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f course’ replies student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[Because of things like this, the word is best avoided in intended learning outcomes – and in life in general, except to get people thinking]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E652F7-5496-4681-A1F3-C8B9AA5A94E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0066"/>
                </a:solidFill>
                <a:latin typeface="Arial"/>
              </a:rPr>
              <a:t>Knight, P and Yorke, M (2003:48) </a:t>
            </a:r>
            <a:r>
              <a:rPr b="1" i="1" lang="en-GB" sz="2600" spc="-1" strike="noStrike">
                <a:solidFill>
                  <a:srgbClr val="330066"/>
                </a:solidFill>
                <a:latin typeface="Arial"/>
              </a:rPr>
              <a:t>Assessment, learning and employability</a:t>
            </a:r>
            <a:r>
              <a:rPr b="1" lang="en-GB" sz="2600" spc="-1" strike="noStrike">
                <a:solidFill>
                  <a:srgbClr val="330066"/>
                </a:solidFill>
                <a:latin typeface="Arial"/>
              </a:rPr>
              <a:t> Maidenhead, UK SRHE/Open University Press.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uncertainty about what counts as understanding. Side-stepping some important philosophical issues, we suggest that a student who understands something is able to apply it appropriately to a fresh situation (demonstration by far transfer) or to evaluate it (demonstration by analysis). Understanding cannot be judged, then, by evaluating the learner’s retention of data or information; rather, assessment tasks would need to have the student apply data or information appropriatel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0066"/>
                </a:solidFill>
                <a:latin typeface="Arial"/>
              </a:rPr>
              <a:t>Bowl, M (2003:90) </a:t>
            </a:r>
            <a:r>
              <a:rPr b="1" i="1" lang="en-GB" sz="2000" spc="-1" strike="noStrike">
                <a:solidFill>
                  <a:srgbClr val="330066"/>
                </a:solidFill>
                <a:latin typeface="Arial"/>
              </a:rPr>
              <a:t>Non-traditional entrants to higher education ‘they talk about people like me’</a:t>
            </a:r>
            <a:r>
              <a:rPr b="1" lang="en-GB" sz="2000" spc="-1" strike="noStrike">
                <a:solidFill>
                  <a:srgbClr val="330066"/>
                </a:solidFill>
                <a:latin typeface="Arial"/>
              </a:rPr>
              <a:t> Stoke on Trent, UK, Trentham Books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hardship was not understanding. When they give you an assignment and say it was on this handout. But my difficulty is not understanding what to do at first… I think that there’s a lack of my reading ability, which I can’t blame anyone for. I can only blame myself because I don’t like reading. And if you don’t read, you’re not going to learn certain things. So I suppose that’s to do with me…..it’s reading as well as putting what you read into your essay. You can read it and understand it. I can read and understand it, but then you have to incorporate it into your own words. But in the words they want you to say it in, not just: She said this, and this is the way it should be. The words, the proper language. Maybe it’s because I have difficulty pronouncing certain words. I avoid using them as they’re not familiar to me. When I’m writing, I find that because I’m not familiar with those words, it’s hard to write them… I haven’t really gone into it, because I don’t want them to say, you’re not supposed to be on this course, or anything like that. I’ve come too far now for them to say that, so I don’t like raising the issue. (Helen, brought up in Jamaic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RM Office System</dc:creator>
  <dc:description/>
  <dc:language>en-US</dc:language>
  <cp:lastModifiedBy>Brown</cp:lastModifiedBy>
  <dcterms:modified xsi:type="dcterms:W3CDTF">2008-03-17T11:14:19Z</dcterms:modified>
  <cp:revision>219</cp:revision>
  <dc:subject/>
  <dc:title>Towards Active Learning</dc:title>
</cp:coreProperties>
</file>